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563-E161-4E8D-AA36-0D688E87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B0A-4888-441D-A13F-F2472C0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ED7-E462-4951-9BEF-34D9C772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160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37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160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37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B5D-ACB4-4FF8-8064-8387F0CB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8705-82FC-45F5-8C7B-2B30F882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6940-2758-4CD4-B6A3-5A6B53C6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C4F1-7286-401E-AD53-532A483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0039-2449-47AE-A6D4-2DD47DE2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930F-B2A9-4D80-B1A7-59494F2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57150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84B-762D-41AE-8667-AE505BE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EB08-6B9F-4FBF-BF74-18540C6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137-CF3A-461C-A7F4-D028351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0C4-72E2-4DDF-A7EA-1A86150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1D6-5620-4F1E-9FF5-5B497D5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6896-1DD0-4015-9857-9521625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DCBC-21FD-407C-BBB5-8AAF6665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4160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37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4160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37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F311-8CE4-412F-B64E-14D35BBF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24F-B702-4154-92AE-1D764F5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215-DAE0-413C-96B2-1B678393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8FA-18AA-4DB6-86A5-4CCC3E2D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57150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CA2-2E18-49D5-BDBD-2F096215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573-CAD9-4540-82C1-F2B3C59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6E9-9A4A-4AE2-990C-D9070E1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65B-BED9-440E-8BC0-851BD9C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BA5D-D72A-42C7-9F46-E40BD591CFD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835-389B-4C6E-B9B5-6FBB35D0D26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2:38Z</dcterms:created>
  <dc:creator>Bonnie Ritchey</dc:creator>
  <dc:description/>
  <dc:language>en-US</dc:language>
  <cp:lastModifiedBy>Bonnie Ritchey</cp:lastModifiedBy>
  <dcterms:modified xsi:type="dcterms:W3CDTF">2004-05-21T03:12:5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31033</vt:lpwstr>
  </property>
</Properties>
</file>